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662-EE26-43B3-A0AF-DD165AF3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C25-6962-4C80-8CA5-9DA7CF7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DAE-BE24-41C3-B80D-B1F2C01F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400-3747-44A4-8DC6-A3C37F3C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E0D-D7F2-43C3-87CC-0A361C82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E07-6CD5-437E-8317-FEC7CFF3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238-0CFB-4B52-A617-3DEB9006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C14-3EB7-4AF7-889F-A3F19E7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808-14D7-4EDA-9ABF-FA90762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C59-F50B-4C62-8B35-0AA188E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F35-1714-47FE-9946-AFFC166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895-2926-460B-A8B8-2B2EB0C4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ADEB-0F91-4AE2-93AB-C550B0398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gg</cp:lastModifiedBy>
  <dcterms:modified xsi:type="dcterms:W3CDTF">2007-03-17T15:42:33Z</dcterms:modified>
  <cp:revision>44</cp:revision>
  <dc:subject>environments food living things energy</dc:subject>
  <dc:title>environments food living things energy</dc:title>
</cp:coreProperties>
</file>